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D53-D3A4-4755-BD11-DD9DBAA5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5F0-AFE8-4767-A44C-49D0ECD0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698-46B0-4F93-979E-9E3BE980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AEF-909C-4F84-B801-4C38F26B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546BB-C08C-4C9B-8ACE-FD9C16B2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BEDCD-4CB9-4379-BD5D-F577561B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7386A-D09F-46DD-8004-BE72FE84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0C005-6AB6-4474-8B9F-F49B98C0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74CB5-170C-4457-A0F1-2810F3C7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4A824-7939-4EC3-8A88-8EF4FEB3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16D58-8D50-4B7B-A017-CA88E47A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856-912E-43BB-A118-A7AB3816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C2027-6FA1-4A9A-8DAC-C2FA2D38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CE633-715F-4DE6-AD83-4F22759B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9176E-1169-4574-A3EF-7C0E4F3B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1F4B5-222F-4BEC-85E3-DE76D58A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4EC7A-D078-4626-9F3B-CF94D2C3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3DA-E137-461B-8AA2-D7889F4D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504-45DA-4B5C-BF3F-D4A5B91F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621-0291-4327-AA45-304724B5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285-F2EC-4796-B579-46C1DC20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B0E-5A22-4FB8-97F0-5E3F84DD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594-E459-460D-BBE5-F2FD9171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2BB-2E30-4852-8CCC-286F304C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0C0C-B2EA-4445-A694-E6E2DC0E2E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DC58-BC2E-4A97-95BB-08614723BED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Reflective Pract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efinitions, Models &amp; Meth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ertificate in Education Year 2 2008-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rriers to Ref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actical Barr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Kolb (1984) sees that to reflect effectively on your experience, you should actively set aside part of your working day to reflect &amp; analy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Kolb, D. (1984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Experiential Learning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w Jersey; Prentice H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rriers to Ref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7040" y="2198160"/>
            <a:ext cx="7929720" cy="34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sychological Barr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ear of judgement, fear of criticism, being closed to feedback, defensiveness, professional arrog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ridges to Ref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n-judgemental support, e.g. mentor, mana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eeling ‘safe’ enough – or we may use ‘expedient’ learning &amp; do what we expect will get us thr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role model, e.g. a mentor who reflects on their own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Knowledge of as many methods as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s many opportunities as possible for engaging in reflection, e.g. pairs,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ime &amp; Energ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xer, G. (2003) Developing the relationship between reflective practice &amp; social work values.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Journal of Practice Teachin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5, 1, pp 7-2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ethod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arra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98160"/>
            <a:ext cx="8229600" cy="38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 Narrative is a story of an experience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or even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ritten in the first person, i.e. I felt… I thought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er-centred in that it allows the learner’s voice to be hear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s links to be made between personal &amp; professional develo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n be shared to allow deeper reflection &amp; compari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ethod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flective Jour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 Reflective Journal focuses on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r reaction to the event or exper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fferent ways that you might look at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the experience links with other experi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you can understand the experience in the light of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you have learned in the sit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you need to lea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you might achieve your identified learning go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ethod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ritical Inc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 critical incident is an incident that is in some way significant to the individual recounting it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 should recor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the situation w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you did i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happened as a result of your 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reflection on the situation or event &amp; the process by which it unfold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Importance of Ref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flection enables us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 conscious of our potential for bias &amp; discrimin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ke the best use of the knowledge availabl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allenge &amp; develop the existing professional knowledge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void past mistak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ximise our own opportunities for lear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Importance of Ref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less we make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conscious &amp; systematic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efforts to critique our own practic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will be unaware of how &amp; when we are being discrimina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will not make use of the knowledge base developed by our own prof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will continue to repeat the same mistak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ur skills will stagnate rather then develo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oud, D., Keogh, R. &amp; Walker, D. (1985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Reflection: Turning Experience into Learning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ondon: Kogan Page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ewey, J. (1938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Logic: The Theory of Inquiry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MN: Rinehart &amp; Winst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xer, G. (2003) Developing the relationship between reflective practice &amp; social work values.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Journal of Practice Teachin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5, 1, pp 7-2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Johns, C.  (2000).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Becoming a Reflective Practitione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Oxford; Blackwe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Kolb, D. (1984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Experiential Learning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w Jers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chon, D. (1983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The Reflective Practitione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London: Temple Smi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te, S. &amp; Sills, M. (eds) (2004) p 126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The Development of Critical Reflection in the Health Professions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ondon; Higher Education Author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PDJ Entry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 are your hopes &amp; aspirations at the start of Year 2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 you foresee any potential problems in fulfilling the course requiremen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 support would help to overcome these problem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flection: A Definition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flection is an important human activity in which people recapture their experience, think about it, mull over &amp; evaluate it. It is this working with experience that is important in learning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oud, D., Keogh, R. &amp; Walker, D. (1985) p 43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Reflection: Turning Experience into Learning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ondon: Kogan Page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flection: A Definition (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We learn through critical reflection by putting ourselves into the experience &amp; exploring personal &amp; theoretical knowledge to understand it &amp; view it in different w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te, S. &amp; Sills, M. (eds) (2004) p 126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The Development of Critical Reflection in the Health Professions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ondon; Higher Education Authority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flection: Informal &amp; inform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l Ref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volves self- questio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velops our awareness of our own assum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Formal Ref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raws on research &amp;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vides guidance &amp; frameworks for pract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odel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ewey’s (1938) 5 Stage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. We identify a problem that is perplexing &amp; ‘felt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. We observe &amp; refine the identified problem to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eate a fuller understa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. We develop a hypothesis or an understanding about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problem, its origins &amp; possible 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4. We subject the hypothesis to scrutiny &amp; reaso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. We test the hypothesis or understanding in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ewey, J. (1938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Logic: The Theory of Inquiry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Troy, MN: Rinehart &amp; Winst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odel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chon’s  (1983) ‘Reflection in Action’</a:t>
            </a: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flection in action concerns thinking about something whilst engaged in doing it, having a feeling about something &amp; practicing according to that feeling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model celebrates the intuitive &amp; artistic approaches that can be brought to uncertain situa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chon, D. (1983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The Reflective Practitione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London: Temple Smi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odel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olb’s (1984) Learning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oncrete Experie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 The ev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flective observ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 Consider what has happened from a variety of perspectives e.g. own feelings, the group’s, an individual student’s vi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bstract conceptualisation: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-package &amp; process your reflections into a theoretical understanding (use theory to analyse the ev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ctive Experimentation: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rmed with this new understanding, you do it again, differently this tim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Kolb, D. (1984)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Experiential Learning.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w Jersey; Prentice H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odel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oud’s (1985) Experiential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6188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turn to an event, incident or experience &amp; record i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sider it in detail at an emotional and cognitiv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-evaluate the event in the light of experience, knowledge &amp; experimentation. Seek to understand the meaning of the exper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lan for what you might chan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oud, D., Keogh, R. &amp; Walker, D. (1985) 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Reflection: Turning Experience into Learnin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London: Kogan Page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mmitmen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ccept responsibility &amp; be open to ch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ntradictio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te tension between actual &amp; desired prac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nflic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rness this energy to take appropriat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halleng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front your own typical actions, beliefs &amp;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titudes in a non-threatening w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tharsi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ork through negative feel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reatio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ove beyond old self to novel alterna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nnectio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nect new insights in the world of prac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rin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alise desirable prac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ngruenc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flection as a mirror for ca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nstructin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uilding personal knowledge in prac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Johns, C.  (2000).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Becoming a Reflective Practitione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. Oxford; Blackwe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odels of Reflec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John’s Ten C’s of Reflection (20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9:34:12Z</dcterms:created>
  <dc:creator>IT Resources</dc:creator>
  <dc:description/>
  <dc:language>en-US</dc:language>
  <cp:lastModifiedBy>Lorraine Simpson</cp:lastModifiedBy>
  <dcterms:modified xsi:type="dcterms:W3CDTF">2008-09-02T14:56:52Z</dcterms:modified>
  <cp:revision>19</cp:revision>
  <dc:subject/>
  <dc:title>Reflective Practice</dc:title>
</cp:coreProperties>
</file>